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64BE-B33D-4383-8655-E4BAD108D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17B0-DE9F-4B77-800C-639DED6B1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C52F-E731-4925-AF08-8EE2663D2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46B1-CCC3-4E5C-8D28-3B94E1F86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19D1C-6133-43E1-BE27-251186825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A325C-D2B0-43D1-A50E-9D53E4B3D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38918-5626-4241-B6A0-3E6B857D1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F3023-94BA-4006-B08E-4CA0F435A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D6EAF-39B7-4F3F-8381-8B4FE9953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16508-E08F-4DDD-AE49-636C28C70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7AA89-7AFC-4BAC-8DE4-8BD945BAA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3CC8-900B-40D5-92EC-7AB0B3250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B4129-5388-474D-B2F2-CE869BB4A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4E727-42D3-43CD-9965-054201B78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2E565-7A75-4113-AAA9-2C8C53AFD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49B96-C758-45F5-BAEA-2463325B7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8DBBE-C242-4A7A-A2AF-3B799EF43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7ACC-40FD-43D7-AC32-08DAA2BB4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6233-E136-4276-8519-A2A7E9A15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0222-9F93-4491-B991-8B4ABB79E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091C-A2E4-44C5-9E5C-F361677AF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A323-550E-4E95-9939-20C8A8826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C0DB-081F-41B2-A3B8-AA7F00BBA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62E3-9C10-427F-B55B-9F8E5B5F0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FAC9C-7F3F-408D-83E9-EC998A90EEE8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E69A8-B94F-4D98-9355-3353A00A39C1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굴림"/>
                <a:ea typeface="굴림"/>
              </a:rPr>
              <a:t>2</a:t>
            </a: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장 통합교육의 동향과 발전과제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철학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1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정상화 개념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 북유럽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2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잠재력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일반 체제 이론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개인의 철학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결정 운동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의 용어와 배경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정상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norm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mainstreaming)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와 탈수용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deinstitution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환경과 관련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탈수용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지역사회의 환경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naissance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의 인본주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주류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통합교육의 방안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구체적인 방안 미흡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전통적인 일반학교의 적합성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과정과 프로그램의 효율성 비판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수행에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학급의 증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일반학급에서의 통합교육의 필요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일반교육 주도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gular Education Initiative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권리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교육과 일반교육의 단일체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분리교육의 감소 또는 제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효율적인 교수체제의 단일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 중복장애아동의 통합 비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(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완전</a:t>
            </a: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) 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인간의 자유와 존엄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장애아동의 통합 제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여러 압력 단체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살라만카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Salamanca) 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선언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자신의 거주지 학교 입학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이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638"/>
                </a:solidFill>
                <a:latin typeface="Arial"/>
                <a:ea typeface="굴림"/>
              </a:rPr>
              <a:t>살라만카 선언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UNESCO 1994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년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- 88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국가와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25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개의 국제조직위원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기본권과 기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별한 욕구와 적성에 맞는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체제와 아동의 다양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아동중심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완전통합 방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법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교재 참고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역사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제외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대 이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분리 특수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-195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모움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50-198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포함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9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이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 모형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물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용어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행정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사회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교육과정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심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정리 및 질문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합교육에 대한 이해의 필요성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조작적 정의에 대한 이해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강제가 아니라 최적의 학습 조건 제공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학교육의 당위성 증명 노력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우리의 현실은 모움식 통합 단계이며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완전 포함교육을 강제해서는 안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육전반의 개선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협력학습 등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행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재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사양성 및 재교육 체제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학교 구조의 재조직화 등이 선결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과정과 수단 및 방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+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목적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1. 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동향과 발전과제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학급의 설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1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에 대한 논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8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현장 적용의 시도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교육 진흥법에 규정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4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용어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tegrat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선 분리 후 통합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clus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비 분리 후 필요에 따른 분리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목적과 가치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객관적과 주관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교육 목표 또는 가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다양성이 전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평등권 추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수월성 보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조화의 극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수단과 과정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 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-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목적도 포함되어야 한다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개념적 및 법적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미국 공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Public Law: PL) 94-142(197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완전취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무상교육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평한 평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개별화 교육 프로그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제한된 환경의 최소화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적법 절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부모 참여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PL 99-457(1986): 0-5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세의 무상교육 확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우리나라 통합교육 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특수교육진흥법 제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2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조 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6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항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200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- 1977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년 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; 10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차례 개정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이해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omas Kuhn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의 저서 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e Structure of Scientific Revolutions(1962, 1970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이란 무엇인가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뉴턴의 만류인력 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객관성과 불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의 인식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의 도입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과 권력의 상관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과 권력의 상관성</a:t>
            </a:r>
            <a:r>
              <a:rPr b="0" lang="en-US" sz="3200" spc="-1" strike="noStrike">
                <a:solidFill>
                  <a:srgbClr val="323232"/>
                </a:solidFill>
                <a:latin typeface="HY버들M"/>
                <a:ea typeface="HY버들M"/>
              </a:rPr>
              <a:t>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기원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일본에 대한 사고의 틀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1945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 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2008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침략국          경제대국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원수             소형화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SONY)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징병             자동차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TOYOTA) 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죽일             죽일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74920" y="1771560"/>
            <a:ext cx="0" cy="31226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8200" y="2490840"/>
            <a:ext cx="609264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분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920" y="1914120"/>
            <a:ext cx="80042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                     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거시적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인본주의           구조주의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주관적                                객관적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해석주의           기능주의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             미시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54200" y="3643200"/>
            <a:ext cx="350532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38560" y="2563920"/>
            <a:ext cx="0" cy="22096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사회적 배경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패러다임의 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개인의 결함보다는 환경과 제도의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모두를 위한 교육에 대한 공통체 의식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 향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XPuser</cp:lastModifiedBy>
  <dcterms:modified xsi:type="dcterms:W3CDTF">2008-07-25T03:10:18Z</dcterms:modified>
  <cp:revision>19</cp:revision>
  <dc:subject/>
  <dc:title>농아동의 수학교과교육</dc:title>
</cp:coreProperties>
</file>